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A28-2D85-4B63-AE7E-A11ABC8E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2A2-2905-4122-829F-6450DC44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1B7-3FF1-4200-93D1-505B0399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CF4-8571-4EAA-B369-B17708B6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BC1-AFE9-4E0A-A81F-65878EA3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9C2-1615-4A6F-A4A5-7EB1D8AA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3DF-AE61-47F5-9068-B9C6D6C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59C-EA2A-43D2-94F3-8CCBDD2A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29D-5323-428B-9B77-C320F748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771-8641-4D86-B7E5-D3B8D2CA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0374-4F7E-4AF7-ADAF-8E545A68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233-8DDB-4979-9732-59DB7019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26FB-620A-4385-9ED4-E9497B4A1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GO MEDICINA.png"/>
          <p:cNvPicPr/>
          <p:nvPr/>
        </p:nvPicPr>
        <p:blipFill>
          <a:blip r:embed="rId1"/>
          <a:stretch/>
        </p:blipFill>
        <p:spPr>
          <a:xfrm>
            <a:off x="142920" y="0"/>
            <a:ext cx="8688240" cy="235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24000" y="2780640"/>
            <a:ext cx="8501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6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 (Б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наест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ја Д. Жи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 који садрже </a:t>
            </a: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ов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ен - бактерици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900000" y="1797120"/>
          <a:ext cx="59040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97120"/>
                    <a:ext cx="59040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4"/>
          <p:cNvSpPr/>
          <p:nvPr/>
        </p:nvSpPr>
        <p:spPr>
          <a:xfrm>
            <a:off x="1479240" y="299736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золи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622520" y="494172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то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447240" y="639612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067280" y="429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-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5435640" y="6597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738840" y="42926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H-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054080" y="4797360"/>
            <a:ext cx="1701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900000" y="5589720"/>
            <a:ext cx="7417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al-Knorr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а метода (из 1,4-дикарбонилних једиње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4360" y="1773360"/>
          <a:ext cx="731808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3180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539640" y="404640"/>
          <a:ext cx="81630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81630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826920" y="3645000"/>
          <a:ext cx="7878960" cy="27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645000"/>
                    <a:ext cx="7878960" cy="27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Box 5"/>
          <p:cNvSpPr/>
          <p:nvPr/>
        </p:nvSpPr>
        <p:spPr>
          <a:xfrm flipH="1">
            <a:off x="971640" y="2997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алкилпир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611280" y="1359000"/>
          <a:ext cx="792144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59000"/>
                    <a:ext cx="792144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Box 5"/>
          <p:cNvSpPr/>
          <p:nvPr/>
        </p:nvSpPr>
        <p:spPr>
          <a:xfrm>
            <a:off x="5508720" y="4365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л-анј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716360" y="198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= 17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пирол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иловање, сулфоновање, јод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468360" y="2205000"/>
          <a:ext cx="814068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814068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Box 4"/>
          <p:cNvSpPr/>
          <p:nvPr/>
        </p:nvSpPr>
        <p:spPr>
          <a:xfrm>
            <a:off x="299520" y="3500280"/>
            <a:ext cx="88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нитропирол                                                                               2-пиролсулфо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23640" y="5589720"/>
            <a:ext cx="85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ацетилпирол                                                                                  тетрајодпирол (јод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ол веома тешко подлеж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ој реакцији, што није случај са његовим дериватима који за атом азота имају везану неку електрон-привлачну група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488880" y="2354400"/>
          <a:ext cx="842976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2354400"/>
                    <a:ext cx="842976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5"/>
          <p:cNvSpPr/>
          <p:nvPr/>
        </p:nvSpPr>
        <p:spPr>
          <a:xfrm>
            <a:off x="252360" y="5229360"/>
            <a:ext cx="2794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етоксипи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пи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900000" y="1844640"/>
          <a:ext cx="72723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2723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4"/>
          <p:cNvSpPr/>
          <p:nvPr/>
        </p:nvSpPr>
        <p:spPr>
          <a:xfrm>
            <a:off x="560160" y="3645000"/>
            <a:ext cx="28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–дихидро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олин, pKa~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858000" y="3645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ид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 = 11,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9960" y="59500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олин, pKa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952880" y="587700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олин, pKa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 који садрже пиролов прст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фирин, хем, хлорофил, витамин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1619280" y="2276640"/>
          <a:ext cx="6423120" cy="41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6423120" cy="41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Box 4"/>
          <p:cNvSpPr/>
          <p:nvPr/>
        </p:nvSpPr>
        <p:spPr>
          <a:xfrm>
            <a:off x="4210920" y="6273720"/>
            <a:ext cx="8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611280" y="1989000"/>
          <a:ext cx="817884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9000"/>
                    <a:ext cx="81788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Box 4"/>
          <p:cNvSpPr/>
          <p:nvPr/>
        </p:nvSpPr>
        <p:spPr>
          <a:xfrm>
            <a:off x="0" y="4149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ол                          изоиндол                             индоли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пирол             бензо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пирол                     бензо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 бензо[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пирола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1222200" y="2217600"/>
          <a:ext cx="7094880" cy="42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2200" y="2217600"/>
                    <a:ext cx="709488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Box 4"/>
          <p:cNvSpPr/>
          <p:nvPr/>
        </p:nvSpPr>
        <p:spPr>
          <a:xfrm>
            <a:off x="6306480" y="378936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о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3645000"/>
            <a:ext cx="88930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: Видети раније Paal-Knor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а мет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 галактошећерне кисели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611280" y="1341360"/>
          <a:ext cx="760572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76057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Box 4"/>
          <p:cNvSpPr/>
          <p:nvPr/>
        </p:nvSpPr>
        <p:spPr>
          <a:xfrm>
            <a:off x="461520" y="314172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фурил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фурил      2-фурфурил           2-фуро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611280" y="5229360"/>
          <a:ext cx="78120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29360"/>
                    <a:ext cx="7812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 који садрже </a:t>
            </a:r>
            <a:r>
              <a:rPr b="0" lang="sr-M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пиролов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ст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 flipH="1">
            <a:off x="1403280" y="3573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пт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 flipH="1">
            <a:off x="6875640" y="3429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т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971640" y="1432080"/>
          <a:ext cx="7056360" cy="54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32080"/>
                    <a:ext cx="7056360" cy="54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8"/>
          <p:cNvSpPr/>
          <p:nvPr/>
        </p:nvSpPr>
        <p:spPr>
          <a:xfrm>
            <a:off x="6264360" y="508464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N-диетиламид лизергне киселине (L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ан у киселој средини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као и на дејство ваздушног кисеоник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395280" y="1628640"/>
          <a:ext cx="5707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5707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3"/>
          <p:cNvGraphicFramePr/>
          <p:nvPr/>
        </p:nvGraphicFramePr>
        <p:xfrm>
          <a:off x="611280" y="3933720"/>
          <a:ext cx="7532640" cy="15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933720"/>
                    <a:ext cx="753264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фура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мовање, ациловање, сулфон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79280" y="2133720"/>
          <a:ext cx="869184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133720"/>
                    <a:ext cx="86918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Box 4"/>
          <p:cNvSpPr/>
          <p:nvPr/>
        </p:nvSpPr>
        <p:spPr>
          <a:xfrm>
            <a:off x="8280" y="49417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ацетилфуран    2-ацетилф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261800" y="3068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бромф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66960" y="4076640"/>
            <a:ext cx="37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фурансулфонска     пи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4218120" y="4221000"/>
          <a:ext cx="4925880" cy="223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8120" y="4221000"/>
                    <a:ext cx="49258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Box 7"/>
          <p:cNvSpPr/>
          <p:nvPr/>
        </p:nvSpPr>
        <p:spPr>
          <a:xfrm>
            <a:off x="7452000" y="62373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ф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фура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539640" y="2276640"/>
          <a:ext cx="794412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794412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н подлеже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</a:t>
            </a:r>
            <a:r>
              <a:rPr b="0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ој реакцији 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ин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684360" y="1052640"/>
          <a:ext cx="626400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62640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Box 5"/>
          <p:cNvSpPr/>
          <p:nvPr/>
        </p:nvSpPr>
        <p:spPr>
          <a:xfrm>
            <a:off x="4792680" y="6021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7671600" y="6021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539640" y="4076640"/>
          <a:ext cx="8631360" cy="20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076640"/>
                    <a:ext cx="86313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фур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а супституција код бенз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а иде углавном у положај 2 (разлика од одговарајућ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фена и пирол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Object 2"/>
          <p:cNvGraphicFramePr/>
          <p:nvPr/>
        </p:nvGraphicFramePr>
        <p:xfrm>
          <a:off x="324000" y="1413000"/>
          <a:ext cx="6840360" cy="15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68403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7149960" y="1413000"/>
          <a:ext cx="1994040" cy="15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9960" y="1413000"/>
                    <a:ext cx="199404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Box 5"/>
          <p:cNvSpPr/>
          <p:nvPr/>
        </p:nvSpPr>
        <p:spPr>
          <a:xfrm>
            <a:off x="2343960" y="285264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фу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520680" y="292428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фу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3059280" y="5084640"/>
          <a:ext cx="290988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5084640"/>
                    <a:ext cx="29098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1258920" y="1125360"/>
          <a:ext cx="301140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5360"/>
                    <a:ext cx="301140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4"/>
          <p:cNvSpPr/>
          <p:nvPr/>
        </p:nvSpPr>
        <p:spPr>
          <a:xfrm>
            <a:off x="558360" y="3860640"/>
            <a:ext cx="46184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електрон-донорска 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5292720" y="1773360"/>
          <a:ext cx="3600360" cy="25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773360"/>
                    <a:ext cx="360036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6"/>
          <p:cNvSpPr/>
          <p:nvPr/>
        </p:nvSpPr>
        <p:spPr>
          <a:xfrm>
            <a:off x="4172400" y="4724280"/>
            <a:ext cx="48121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електрон-привлачна 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76720" y="333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фу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фур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324000" y="2565360"/>
          <a:ext cx="85723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565360"/>
                    <a:ext cx="85723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4"/>
          <p:cNvSpPr/>
          <p:nvPr/>
        </p:nvSpPr>
        <p:spPr>
          <a:xfrm>
            <a:off x="10800" y="4076640"/>
            <a:ext cx="2446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идрофу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 flipV="1" rot="10800000">
            <a:off x="1692360" y="2276640"/>
            <a:ext cx="1511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ф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478320" y="3933720"/>
            <a:ext cx="264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фурил-алко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034240" y="19890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идрофурфурил-алко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09:00:52Z</dcterms:created>
  <dc:creator>Milos Nikolic</dc:creator>
  <dc:description/>
  <dc:language>en-US</dc:language>
  <cp:lastModifiedBy>Corporate Edition</cp:lastModifiedBy>
  <dcterms:modified xsi:type="dcterms:W3CDTF">2017-09-04T11:41:22Z</dcterms:modified>
  <cp:revision>7</cp:revision>
  <dc:subject/>
  <dc:title>Slide 1</dc:title>
</cp:coreProperties>
</file>